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C488-4C7D-4E4F-A8EE-7312B6955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AAD8-9512-46C1-914E-696FEF8AA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5BA5-327E-4392-B17B-BF32201C3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7598-3E35-42B4-B66B-3E7778FD3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41F5-6184-4B12-9E6E-EB557A1B3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6A99-697C-457A-8692-EF5810D13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3A3C-0238-497C-9F05-E4C0435C7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E295-FAF8-4ED5-B877-7C8753A8F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C8D6-0079-4DE0-A11C-4D9619120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8AC9-A7B1-49D2-952D-A67BFA7D9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A102-A034-4CC0-9A78-BE174B4BE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B96A-3117-4F57-A22A-5EC1B167A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8D604B-1056-4F8F-85D5-3B737D6B71E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862D4E-B248-46C1-9C74-81406FA3CE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ns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8</a:t>
            </a:r>
            <a:r>
              <a:rPr b="0" lang="en-US" sz="3200" spc="-1" strike="noStrike" baseline="30000">
                <a:solidFill>
                  <a:srgbClr val="898989"/>
                </a:solidFill>
                <a:latin typeface="Calibri"/>
              </a:rPr>
              <a:t>th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grade Sci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ns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Content Placeholder 3" descr="Density Formula.jpg"/>
          <p:cNvPicPr/>
          <p:nvPr/>
        </p:nvPicPr>
        <p:blipFill>
          <a:blip r:embed="rId1"/>
          <a:srcRect l="0" t="-59940" r="0" b="-59940"/>
          <a:stretch/>
        </p:blipFill>
        <p:spPr>
          <a:xfrm>
            <a:off x="3354480" y="2825640"/>
            <a:ext cx="2442960" cy="13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ns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 object will float in a fluid that is more dense than itsel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 object will sink in a fluid that is less dense than itsel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ge 59, Applying Math Probl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scal’s Princi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Content Placeholder 3" descr="Pascal's Principle.jpg"/>
          <p:cNvPicPr/>
          <p:nvPr/>
        </p:nvPicPr>
        <p:blipFill>
          <a:blip r:embed="rId1"/>
          <a:srcRect l="-23603" t="0" r="-23603" b="0"/>
          <a:stretch/>
        </p:blipFill>
        <p:spPr>
          <a:xfrm>
            <a:off x="-728640" y="1766880"/>
            <a:ext cx="6092640" cy="335124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4495320" y="3035160"/>
            <a:ext cx="4380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en a force is applied to a confined fluid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 increase in pressure is transmitted equall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o all part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3T11:17:01Z</dcterms:created>
  <dc:creator>Cleophis Carson</dc:creator>
  <dc:description/>
  <dc:language>en-US</dc:language>
  <cp:lastModifiedBy>Cleophis Carson</cp:lastModifiedBy>
  <dcterms:modified xsi:type="dcterms:W3CDTF">2011-09-23T16:29:59Z</dcterms:modified>
  <cp:revision>1</cp:revision>
  <dc:subject/>
  <dc:title>Density</dc:title>
</cp:coreProperties>
</file>